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C7D6E-1FAC-456B-BE85-5813E10D7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46623-12B5-435C-A5B5-329FCCD39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4271B-C424-40BE-952B-ED5BB03D8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B8581-AA89-4D1F-9039-55BF0967A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77EBB-B172-4CEB-AFF7-9D3D8A2EF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6D69C-2FBE-4107-A2B7-27F6BD363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B4D36-8AF5-4BA8-9845-54FED59E1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81D9E-7003-4DBF-8796-38419F890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7FCAB-223E-4DA4-85BE-A3CA2FB19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5A8CC-97BE-4E1D-B532-4486C4A5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701A0-2312-4CDA-9B4B-5A439CF1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055CE-7433-4F29-87F8-9AAC584E6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DF856-12A2-435C-9565-17AF1E2D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E463C-5142-4306-959F-D723A325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0C0F8-E669-4B01-8D25-A0C322D03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B855E-C50D-40DC-AA7D-37D181B2F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B5F77-D79D-4702-9686-DE6983919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46E16-9D67-4C6A-8CD9-CE0C77351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7C6F1-3CAB-43F4-9737-620C24BB3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04DA6-60E3-4839-AC4B-A64F2509D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A2F58-30F5-4D85-AF16-1D15FE44F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051EB-1FEE-4C7F-BCD8-77DC643C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7A826-1F79-4162-B9B8-383EDB8E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1A36C-EB95-4F14-A663-970D987A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97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97A62-36E2-44FA-BC5A-977B5975B15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70cac6"/>
                </a:gs>
                <a:gs pos="100000">
                  <a:srgbClr val="2f97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2f97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70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70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70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99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97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70cac6"/>
                </a:gs>
                <a:gs pos="100000">
                  <a:srgbClr val="2f97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70ca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70ca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70ca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70ca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99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65F60-93BA-4A4F-81CE-F91580CCB5C4}" type="slidenum">
              <a:rPr b="0" lang="ru-RU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324000" y="-317880"/>
            <a:ext cx="8565840" cy="65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ниципальное казенное образовательное учреждение дополнительного образования «Дом детского творчества» станицы Атаманской муниципального образования Павловский рай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рекционная работа на занятиях ОДО «Весёлая грамматика» как средство повышения качества знаний и умений учащихся с особыми образовательными потребностям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6156360" y="4962600"/>
            <a:ext cx="2583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Педагог Д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Шкуринская Т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468360" y="876600"/>
            <a:ext cx="813600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4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укцио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4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этой игре побеждает тот, кто последним назовёт фразеологический оборот, в котором встречаются названия животных, птиц, насекомы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3" descr="https://fs00.infourok.ru/images/doc/234/103500/3/img4.jpg"/>
          <p:cNvPicPr/>
          <p:nvPr/>
        </p:nvPicPr>
        <p:blipFill>
          <a:blip r:embed="rId1"/>
          <a:stretch/>
        </p:blipFill>
        <p:spPr>
          <a:xfrm>
            <a:off x="1908000" y="3645000"/>
            <a:ext cx="547236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250920" y="-1419120"/>
            <a:ext cx="813744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Игра «Аплодисменты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Отметьте хлопком фразеологический оборо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Золотые зубы, медвежья берлога, медвежья услуга, волчий аппетит, дрова разгорелись, глаза разгорелись, приходить в школу, волчий хвост, сбивать с толку, сбивать с дерева, горькая правда, задрать нос, приходить в голову, горькое лекарств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3" descr="https://i-a.d-cd.net/ZUAAAgHhiOA-1920.jpg"/>
          <p:cNvPicPr/>
          <p:nvPr/>
        </p:nvPicPr>
        <p:blipFill>
          <a:blip r:embed="rId1"/>
          <a:srcRect l="24446" t="8857" r="20767" b="15288"/>
          <a:stretch/>
        </p:blipFill>
        <p:spPr>
          <a:xfrm>
            <a:off x="6443640" y="4581360"/>
            <a:ext cx="226872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1"/>
          <p:cNvSpPr/>
          <p:nvPr/>
        </p:nvSpPr>
        <p:spPr>
          <a:xfrm>
            <a:off x="539640" y="40464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есть загадок волшебного сундучк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2" descr="https://im0-tub-ru.yandex.net/i?id=a39e39e104fa81cda97d52a282358e79&amp;n=13"/>
          <p:cNvPicPr/>
          <p:nvPr/>
        </p:nvPicPr>
        <p:blipFill>
          <a:blip r:embed="rId1"/>
          <a:stretch/>
        </p:blipFill>
        <p:spPr>
          <a:xfrm>
            <a:off x="1763640" y="1628640"/>
            <a:ext cx="54723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"/>
          <p:cNvSpPr/>
          <p:nvPr/>
        </p:nvSpPr>
        <p:spPr>
          <a:xfrm>
            <a:off x="179280" y="290520"/>
            <a:ext cx="8713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Подсказка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 – шуточный вопро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Ею кофе, чай мешают и медленное действие совершают. Что эт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С этим овощем дружит горе. Что эт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В какой посуде чувствуют себя неловк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В этой посуде воду не носят, зато в ней полно чудес. Что эт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Под какой музыкальный инструмент плясать никому не хочетс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В нём можно купить кота, но не утаишь шила. Что эт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"/>
          <p:cNvSpPr/>
          <p:nvPr/>
        </p:nvSpPr>
        <p:spPr>
          <a:xfrm>
            <a:off x="611280" y="351720"/>
            <a:ext cx="8137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мените исконно русскими слова заимствов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зентация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оу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идж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гресс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нталитет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алог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3" descr="https://assets.change.org/photos/5/kp/ry/NMKPRYYIOUsEkpd-1600x900-noPad.jpg?1486977450"/>
          <p:cNvPicPr/>
          <p:nvPr/>
        </p:nvPicPr>
        <p:blipFill>
          <a:blip r:embed="rId1"/>
          <a:srcRect l="0" t="0" r="23599" b="0"/>
          <a:stretch/>
        </p:blipFill>
        <p:spPr>
          <a:xfrm>
            <a:off x="3708360" y="2852640"/>
            <a:ext cx="49672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"/>
          <p:cNvSpPr/>
          <p:nvPr/>
        </p:nvSpPr>
        <p:spPr>
          <a:xfrm>
            <a:off x="250920" y="-70560"/>
            <a:ext cx="8569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группируйте парами антоним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Явный. 2. Активно. 3. Ничтожный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Вечность. 5. Вперед. 6. Всегд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 Высоко. 8. Завышать. 9. Круто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Твердый. 11. Нужда. 12. Подлинный. 13. Мгновение. 14. Пассивно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. Скрытый. 16. Великий. 17. Назад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. Никогда. 19. Занижать. 20. Полого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1. Мягкий. 22. Достаток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3. Поддельный. 24. Низко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"/>
          <p:cNvSpPr/>
          <p:nvPr/>
        </p:nvSpPr>
        <p:spPr>
          <a:xfrm>
            <a:off x="395280" y="-1768680"/>
            <a:ext cx="856944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берите синоним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Надежда. 2. Оплот. 3. Изумительный. 4. Лаконичный. 5. Колоссальный. 6. Любезность. 7. Неотъемлемы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Лживый. 9. Грациозный. 10. Факультативны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. Краткий. 12. Обыватель. 13. Исполински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. Необязательный. 15. Упование. 16. Неотделимый. 17. Изящный. 18. Мещанин. 19. Цитадел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. Комплимент. 21. Спокойный. 22. Мистически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3. Восхитительный. 24. Сиять. 25. Альманах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6. Блестеть. 27. Невозмутимый. 28. Неискренни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9. Сборник. 30. Сверхъестественны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"/>
          <p:cNvSpPr/>
          <p:nvPr/>
        </p:nvSpPr>
        <p:spPr>
          <a:xfrm>
            <a:off x="0" y="106920"/>
            <a:ext cx="9144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Этимологический словарь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йчас игроки попробуют себя в роли настоящих этимологов. Дело в том, что их сверстники составили маленькие словарики из предложенных им слов. Посмотрите, что у них получилос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стрология- раздел ботаники, где рассказывается о разведении аст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здарь- тот, кому ничего не подари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фин- муж графи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урман- глупый челове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атва- обмен рукопожатия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омбир- стоматоло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иж- парикмахе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ысячелистник- толстый рома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лопоты- аплодисмен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твертовать- выставить оценки за четвер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ажерка- соседка по этаж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тивень- мерзавец, гадкий ти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1"/>
          <p:cNvSpPr/>
          <p:nvPr/>
        </p:nvSpPr>
        <p:spPr>
          <a:xfrm>
            <a:off x="2286000" y="26028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ры по морфемике и словообразованию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2" descr="http://900igr.net/up/datas/159168/001.jpg"/>
          <p:cNvPicPr/>
          <p:nvPr/>
        </p:nvPicPr>
        <p:blipFill>
          <a:blip r:embed="rId1"/>
          <a:srcRect l="0" t="38136" r="48551" b="5165"/>
          <a:stretch/>
        </p:blipFill>
        <p:spPr>
          <a:xfrm>
            <a:off x="2050920" y="2276640"/>
            <a:ext cx="470556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1"/>
          <p:cNvSpPr/>
          <p:nvPr/>
        </p:nvSpPr>
        <p:spPr>
          <a:xfrm>
            <a:off x="250920" y="476280"/>
            <a:ext cx="864216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ра «Чьё гнездо больше?»</a:t>
            </a:r>
            <a:br>
              <a:rPr sz="3200"/>
            </a:b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Цель: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развитие навыка словообразования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ча – за определённое время составить гнездо однокоренных слов, определяя способ словообразования. О результатах докладывает капитан. Обычно даю корни с чередование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–раст-/-ращ-/-рос-; 2)-лаг-/-лож-; 3)-кас-/-кос-; 4)-тир-/-тер- и др.. Побеждает команда, уложившаяся в срок и давшая максимальный список сл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2" descr="https://ds04.infourok.ru/uploads/ex/1242/00025c31-c1128b0e/img9.jpg"/>
          <p:cNvPicPr/>
          <p:nvPr/>
        </p:nvPicPr>
        <p:blipFill>
          <a:blip r:embed="rId1"/>
          <a:stretch/>
        </p:blipFill>
        <p:spPr>
          <a:xfrm>
            <a:off x="1332000" y="3573360"/>
            <a:ext cx="619272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2"/>
          <p:cNvSpPr/>
          <p:nvPr/>
        </p:nvSpPr>
        <p:spPr>
          <a:xfrm>
            <a:off x="324000" y="836640"/>
            <a:ext cx="842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Слабоуспевающие учащиеся  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торые имеют слабые умственные способности и слабые учебные умения и навыки, низкий уровень памяти или те, у которых отсутствуют действенные мотивы учения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"/>
          <p:cNvSpPr/>
          <p:nvPr/>
        </p:nvSpPr>
        <p:spPr>
          <a:xfrm>
            <a:off x="755640" y="182520"/>
            <a:ext cx="8388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нгвистические задачи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ую пару слов вы исключите? Почему? 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ар – повариха, 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кач – ткачиха, 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лектрик – электричка 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урналист – журналистка, 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еник – ученица, 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льник – мельница 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стовчанка – ростовчанин, 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краинец – украинка, 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шинист – машинистка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250920" y="-175680"/>
            <a:ext cx="8713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ыщите пристав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ределите, какие из данных слов имеют приставку ПО-, приставку ПОД- или ПОДО- и какие вовсе не имеют приставк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</a:t>
            </a:r>
            <a:r>
              <a:rPr b="0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осиновик, подорожник, подоконник, подосадовать, подошва, подолбить, подождать, подоить, подоходный, подозрение, пододеяльник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4"/>
          <p:cNvSpPr/>
          <p:nvPr/>
        </p:nvSpPr>
        <p:spPr>
          <a:xfrm>
            <a:off x="539640" y="476280"/>
            <a:ext cx="80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ровые задания, направленные на отработку орфографических 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нктуационных нор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4" descr="https://ds02.infourok.ru/uploads/ex/02fa/0003fa99-409ebff6/img13.jpg"/>
          <p:cNvPicPr/>
          <p:nvPr/>
        </p:nvPicPr>
        <p:blipFill>
          <a:blip r:embed="rId1"/>
          <a:srcRect l="11403" t="15596" r="40133" b="2357"/>
          <a:stretch/>
        </p:blipFill>
        <p:spPr>
          <a:xfrm>
            <a:off x="2268360" y="2205000"/>
            <a:ext cx="45356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3"/>
          <p:cNvSpPr/>
          <p:nvPr/>
        </p:nvSpPr>
        <p:spPr>
          <a:xfrm>
            <a:off x="179280" y="535680"/>
            <a:ext cx="8785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ра «Помоги Пете Ошибкину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В слове 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ьюг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Петя Ошибкин написал твердый знак, так объяснив выбор орфограммы: после приставки 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-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перед гласной 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, с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которой начинается корень 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г,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пишется твердый знак. Согласны ли вы с Петей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В слове 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леный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Петя написал гласную 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«Проверочное слово - сало», -объяснил он. Правильно ли это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 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был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Петя Ошибкин написал слитно. «Это слово, - сказал он, - можно заменить синонимом без 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- отсутствовал»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Почему он неправ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) 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навидел к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тетради Пети написано раздельно. «Не с глаголами пишется раздельно», - заявил Ошибки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) 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епо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Петя написал с буквой о. «После шипящих под ударением пишется о», - объяснил он. Прав ли Пет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"/>
          <p:cNvSpPr/>
          <p:nvPr/>
        </p:nvSpPr>
        <p:spPr>
          <a:xfrm>
            <a:off x="324000" y="-29520"/>
            <a:ext cx="8496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Словарный диктан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Словарный диктант проводится в виде соревнования: кто быстрее найдет «адрес» слова в орфографическом словаре и объяснит, как это слово написать. Такая работа обычно проводится со словами, не регулируемыми правилами (содержащими непроверяемые гласные и согласные в корне слова, удвоенные согласные):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винегрет, бинокль, обаяние, внимание, трибуна, прийти, электрификация, поливитамины, кофта, одноклассники, футбол, хоккей, рассчита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рямоугольник 2"/>
          <p:cNvSpPr/>
          <p:nvPr/>
        </p:nvSpPr>
        <p:spPr>
          <a:xfrm>
            <a:off x="395280" y="476280"/>
            <a:ext cx="83534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ра «Неаккуратная фраз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Цель: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Определить причины смысловой неаккуратности фраз (двусмысленность, неоправданное употребление)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я команда сейчас находится в интересном положении! (Передача «Что? Где? Когда?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экране телевизора вы видите Гаврилова в красивой комбин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рем и удивлением поразила его смерть всех немцев. (А.Н.Толстой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рый поп, одной ногой уже вступивший в гроб, двух молодых венчал перед налоем. (А.С.Пушкин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 жениха князя Андрея получено было четвёртое письмо, из Риги. (Л.Н.Толстой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естьяне трудом своих рук поднялись на ноги. (Шк.соч-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4"/>
          <p:cNvSpPr/>
          <p:nvPr/>
        </p:nvSpPr>
        <p:spPr>
          <a:xfrm>
            <a:off x="539640" y="476280"/>
            <a:ext cx="82803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рекционная работа с использованием игровых технологий помогает в следующем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Помогает скорректировать темп, ритм учебного  процесс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Способствует развитию личностного роста ребен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Повышает уровень его обучаемост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Психологический комфорт, созданный педагогом, повышает мотивацию и стимулирует познавательную актив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Удается  скомпенсировать  проблемы ребенка, довести уровень его развития до возрастной норм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1692360" y="1628640"/>
            <a:ext cx="59054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СПАСИБО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ЗА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ВНИМАНИЕ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900000" y="2463120"/>
            <a:ext cx="75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рямоугольник 2"/>
          <p:cNvSpPr/>
          <p:nvPr/>
        </p:nvSpPr>
        <p:spPr>
          <a:xfrm>
            <a:off x="611280" y="1197000"/>
            <a:ext cx="7345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лабые дети – это не уродливые, а самые нежные цветы в безгранично разнообразном цветнике человечества»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.А.Сухомлинск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1403280" y="836640"/>
            <a:ext cx="70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рямоугольник 7"/>
          <p:cNvSpPr/>
          <p:nvPr/>
        </p:nvSpPr>
        <p:spPr>
          <a:xfrm>
            <a:off x="468360" y="83664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сихологическая поддерж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ём «Стряхни»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4" descr="https://userscontent2.emaze.com/images/ceba3071-6fee-4a7c-bd60-dd79e5992b6e/07a0e1e0-0f55-41ba-8e95-b33af7dffbbb"/>
          <p:cNvPicPr/>
          <p:nvPr/>
        </p:nvPicPr>
        <p:blipFill>
          <a:blip r:embed="rId1"/>
          <a:stretch/>
        </p:blipFill>
        <p:spPr>
          <a:xfrm>
            <a:off x="2484360" y="2781360"/>
            <a:ext cx="406728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900000" y="2805120"/>
            <a:ext cx="774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0" y="112464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скажи мне, и я забуду,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кажи мне, и я запомню,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влеки меня, и я увлекусь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5" descr="https://multiurok.ru/img/593103/image_5bf92b5624926.jpg"/>
          <p:cNvPicPr/>
          <p:nvPr/>
        </p:nvPicPr>
        <p:blipFill>
          <a:blip r:embed="rId1"/>
          <a:stretch/>
        </p:blipFill>
        <p:spPr>
          <a:xfrm>
            <a:off x="1979640" y="3429000"/>
            <a:ext cx="518472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1835280" y="692280"/>
            <a:ext cx="6049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ры по фонетике и орфоэп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4" descr="http://2.bp.blogspot.com/-wkmrj7VR2sQ/VdOvzmY8mzI/AAAAAAAAE9w/mW_QXtkxy1A/w1200-h630-p-k-no-nu/slide_1.jpg"/>
          <p:cNvPicPr/>
          <p:nvPr/>
        </p:nvPicPr>
        <p:blipFill>
          <a:blip r:embed="rId1"/>
          <a:stretch/>
        </p:blipFill>
        <p:spPr>
          <a:xfrm>
            <a:off x="900000" y="2637000"/>
            <a:ext cx="7344000" cy="38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468360" y="-1222920"/>
            <a:ext cx="8280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Пригласи на обед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Задача: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 Озвучить меню обеда, на который вы хотите пригласить своего друга (коллегу, знакомого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ню: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фтели, щавель, пирожки с творогом, сливовый или грушевый компо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"/>
          <p:cNvSpPr/>
          <p:nvPr/>
        </p:nvSpPr>
        <p:spPr>
          <a:xfrm>
            <a:off x="711000" y="-1037520"/>
            <a:ext cx="7721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ры по лексике и фразеологи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3" descr="https://ds04.infourok.ru/uploads/ex/029e/0004e49d-0c02faa7/640/img8.jpg"/>
          <p:cNvPicPr/>
          <p:nvPr/>
        </p:nvPicPr>
        <p:blipFill>
          <a:blip r:embed="rId1"/>
          <a:srcRect l="46070" t="36228" r="6685" b="7079"/>
          <a:stretch/>
        </p:blipFill>
        <p:spPr>
          <a:xfrm>
            <a:off x="2484360" y="2421000"/>
            <a:ext cx="43196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324000" y="135000"/>
            <a:ext cx="8569080" cy="61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сстановить пословицы, части которых соединены неверно. Раскрыть скоб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Бояться (не)счастья - в лес (не)ходи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(Не)другу поверить - словам твоим никогда веры (не)буд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Волков бояться - друга обману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) (Не)плюй в колодец - стыдно (не)учитьс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) Раз скажешь (не)правду - и счастья (не)вида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) (Не)стыдно (не)знать - пригодится воды напитьс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30T13:38:00Z</dcterms:created>
  <dc:creator>1</dc:creator>
  <dc:description/>
  <dc:language>en-US</dc:language>
  <cp:lastModifiedBy>Татьяна</cp:lastModifiedBy>
  <dcterms:modified xsi:type="dcterms:W3CDTF">2019-08-26T16:56:47Z</dcterms:modified>
  <cp:revision>23</cp:revision>
  <dc:subject/>
  <dc:title>Слайд 1</dc:title>
</cp:coreProperties>
</file>